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C5035-DECA-4AAD-99F1-BBD8298A44C7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Calibri"/>
                <a:ea typeface="PMingLiU"/>
              </a:rPr>
              <a:t>熟悉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  <a:ea typeface="PMingLiU"/>
              </a:rPr>
              <a:t>药疗期间的护理须知（药疗监护内容）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Calibri"/>
                <a:ea typeface="PMingLiU"/>
              </a:rPr>
              <a:t>了解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  <a:ea typeface="PMingLiU"/>
              </a:rPr>
              <a:t>护士在合理用药中的作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1E398-4746-4100-BE4C-9F311CB4EB9A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3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7E10C-B5F5-4A7B-966D-08F6D68DB910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3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D5293-1A1F-411A-9298-424BA1A23B9F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4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54765-B6FA-420A-AB25-411437FFE266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9184B3-125D-4744-855C-9F600B0BB8A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101764-483A-4B9B-AD91-C9276E270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E7D4D3-B62B-4C1C-8D21-F3C4DB226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9C0542-007B-4B62-B908-98C0A58F5FD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EBDAB6-008B-4A76-8C73-E88C02298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DB8895-5D9B-4FA7-8F91-546941514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B38A34-5E9E-4AFA-AF1A-9CF7D6468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F724EA-5D2A-4297-BA30-F9FFD51FB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9F4E01-8EA2-403E-858B-E810D4D85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32B1F3-D012-471A-8563-7C81DE278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2316C0-8C73-4537-A377-134708A2E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97C347-AA47-4B44-8A98-FD7FF96FF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Click to edit the outline text format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con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Thir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our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if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ix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ven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45C0E-4B50-4234-B3AD-064D9B2FD309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Click to edit the outline text format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con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Thir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our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if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ix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ven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34920" y="2997000"/>
            <a:ext cx="568944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华文新魏"/>
              </a:rPr>
              <a:t>第四章    </a:t>
            </a:r>
            <a:endParaRPr b="1" lang="en-US" sz="4400" spc="-1" strike="noStrike">
              <a:solidFill>
                <a:srgbClr val="8ac8de"/>
              </a:solidFill>
              <a:latin typeface="华文新魏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华文新魏"/>
              </a:rPr>
              <a:t>影响药物作用的因素</a:t>
            </a:r>
            <a:endParaRPr b="1" lang="en-US" sz="44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203640" y="404640"/>
            <a:ext cx="57117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755640" y="1483920"/>
            <a:ext cx="79200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华文新魏"/>
              </a:rPr>
              <a:t>熟悉：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不同给药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途径</a:t>
            </a: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对药效产生的影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药物耐受性、精神依赖和成瘾性的概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华文新魏"/>
              </a:rPr>
              <a:t>了解：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药物不同剂型对药物吸收的影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机体方面对药效产生影响的因素有哪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护理老年患者用药的注意事项有哪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华文新魏"/>
              </a:rPr>
              <a:t>第一节 </a:t>
            </a:r>
            <a:r>
              <a:rPr b="1" lang="en-US" sz="32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TW" sz="3200" spc="-1" strike="noStrike">
                <a:solidFill>
                  <a:srgbClr val="ffffff"/>
                </a:solidFill>
                <a:latin typeface="华文新魏"/>
              </a:rPr>
              <a:t>药物方面</a:t>
            </a:r>
            <a:endParaRPr b="1" lang="en-US" sz="32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755640" y="1341360"/>
            <a:ext cx="7943760" cy="48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44a7ca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药物剂型：不同剂型影响药物吸收量和速率，从而影响药物作用快慢和强弱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44a7ca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给药途径：不同给药途径能影响药效和起效快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44a7ca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药物相互作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44a7ca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耐受性和依赖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44a7ca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 机体方面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05264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生理状态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646200" indent="-2484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、性别、营养状态、精神状态、遗传因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298440" indent="-29844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病理状态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298440" indent="-29844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饮食对药物作用的影响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298440" indent="-29844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时间药理学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646200" indent="-2484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物节律对药物作用和体内过程的影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298440" indent="-29844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心理因素与用药关系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298440" indent="-29844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老年人临床用药须知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646200" indent="-2484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老年人用药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646200" indent="-2484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老年人用药的注意事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课后习题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圆角矩形 1"/>
          <p:cNvSpPr/>
          <p:nvPr/>
        </p:nvSpPr>
        <p:spPr>
          <a:xfrm>
            <a:off x="1835280" y="1341360"/>
            <a:ext cx="5616360" cy="468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2f7ff"/>
              </a:gs>
              <a:gs pos="100000">
                <a:srgbClr val="f1fdff"/>
              </a:gs>
            </a:gsLst>
            <a:lin ang="16200000"/>
          </a:gradFill>
          <a:ln w="9360">
            <a:solidFill>
              <a:srgbClr val="bfdbe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口服给药时，下列那种剂型吸收最快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(    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片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溶液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C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丸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D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散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E.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胶囊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课后习题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圆角矩形 1"/>
          <p:cNvSpPr/>
          <p:nvPr/>
        </p:nvSpPr>
        <p:spPr>
          <a:xfrm>
            <a:off x="1332000" y="1341360"/>
            <a:ext cx="6985080" cy="5183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2f7ff"/>
              </a:gs>
              <a:gs pos="100000">
                <a:srgbClr val="f1fdff"/>
              </a:gs>
            </a:gsLst>
            <a:lin ang="16200000"/>
          </a:gradFill>
          <a:ln w="9360">
            <a:solidFill>
              <a:srgbClr val="bfdbe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连续使用镇痛药一段时间后停药，患者出现烦躁不安，流泪出汗，腹痛呕吐，此现象称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(    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戒断症状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耐药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C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反跳现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D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后遗效应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.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E.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变态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课后习题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圆角矩形 1"/>
          <p:cNvSpPr/>
          <p:nvPr/>
        </p:nvSpPr>
        <p:spPr>
          <a:xfrm>
            <a:off x="1835280" y="1341360"/>
            <a:ext cx="6481800" cy="468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2f7ff"/>
              </a:gs>
              <a:gs pos="100000">
                <a:srgbClr val="f1fdff"/>
              </a:gs>
            </a:gsLst>
            <a:lin ang="16200000"/>
          </a:gradFill>
          <a:ln w="9360">
            <a:solidFill>
              <a:srgbClr val="bfdbe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肝功能不良患者在使用药物时，应适当采取下列措施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(    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增加给药次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增加药物剂量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C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延长给药间隔时间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D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缩短给药间隔时间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E.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减少给药种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1T09:56:54Z</dcterms:modified>
  <cp:revision>99</cp:revision>
  <dc:subject/>
  <dc:title>内科护理学</dc:title>
</cp:coreProperties>
</file>